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B7A-6E6C-4680-8DF0-5F9D1368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63C-6558-4DF1-8D46-EBED725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15B-A204-4CC5-82AF-181802A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0AC-83F6-493D-90BC-D921A27C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347-A2A7-406D-BB10-F48A754A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974-2B2E-45F0-82C6-87D8A92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04D-1719-45D3-A72F-00C146F1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B02-3E67-496F-BEC0-F8494B56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A09-289E-48CE-A9CE-96D971E3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4C8-57DA-499D-AF7F-2F9E02C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2A8-9BF4-4BB0-A8ED-91F765E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A90-D9E8-48B9-B377-CB7E31A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5AF-F242-43E8-A0F6-F6D104ACE428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459-30BF-4F1A-B149-8F8B02D77BD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4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ompounds and Their Bond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4.1   Valence Electron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4.2   Octet Rule and Ion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219320"/>
            <a:ext cx="7391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CF0-F3FC-4ECF-A9FA-B23FCF257F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Formation of Magnesium  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gnesium ato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Magnesium 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Mg </a:t>
            </a:r>
            <a:r>
              <a:rPr b="1" lang="en-US" sz="30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    –   2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333333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Mg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-8-2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-8   (=Ne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2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2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3333"/>
                </a:solidFill>
                <a:uFillTx/>
                <a:latin typeface="Times New Roman"/>
              </a:rPr>
              <a:t>       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Times New Roman"/>
              </a:rPr>
              <a:t>12 e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-                                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Times New Roman"/>
              </a:rPr>
              <a:t>10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0                                                 2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3C4-C1FA-4407-9F3A-58D7D01ECE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ome Typical Ions with Positive Charges (Cations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roup 1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roup 2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roup 3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Mg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l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a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r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a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A21-EB1F-4D29-8BC8-BC71FEFB95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 Number of valence electrons in alumin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 1 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 2 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 3 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   Change in electrons for octe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 lose 3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        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 gain 3 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       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 gain 5 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Ionic charge of aluminum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 3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 5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  3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3DD-060B-42AF-B368-366328E837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 Number of valence electrons in alumin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 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   Change in electrons for octe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se 3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Ionic charge of aluminum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  3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E36-1E7A-4554-9261-00AFDAAA7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Give the ionic charge for each of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12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and 10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2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2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 50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and  46 e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2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4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 4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15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and 18e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3+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3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 5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650-AA43-431B-B719-13C900BF6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Give the ionic charge for each of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12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and 10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2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 50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and  46 e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4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15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and 18e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3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59D-8700-437B-A559-18630C8093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.  Why does Ca form a Ca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ion?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. Why does O form O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2-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ion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AD4-5D1E-4837-991B-F07FBD24FF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Why does Ca form a Ca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ion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ses 2 electrons to give octe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-8-8-2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-8-8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like Ar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hy does O form O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2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ion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ains 2 electrons to give octe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-6    + 2e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    2-8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like N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429000"/>
            <a:ext cx="1143000" cy="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E4F-6EE5-41D1-AA1C-278942AF09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ons from Nonmetal I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00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In ionic compounds, nonmetals in 5A, 6A, and 7A gain electrons from metals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00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onmetal add electrons to achieve the octet arrangement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00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onmetal ionic charge: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3-, 2-, or 1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144880" cy="24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B07-875A-46B8-9733-744763EAAA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luoride 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paired electr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ct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 -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F </a:t>
            </a:r>
            <a:r>
              <a:rPr b="1" lang="en-US" sz="32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+ e</a:t>
            </a:r>
            <a:r>
              <a:rPr b="1" lang="en-US" sz="32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F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2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32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-7    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-8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(= N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9 p+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9 p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9 e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10 e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 -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onic char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76520" y="2286000"/>
            <a:ext cx="8380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444-50A9-4007-AFC9-D4CDFAB57E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emical Bond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traction between two or more atom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Interaction between valence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Ionic bo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valent bo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057400" cy="15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780-9B18-4A2E-9868-38053A51CE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Learning Check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lete the names of the following ions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A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A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itri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__________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fluori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___    __________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_________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r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999-9F38-468F-A504-887B811B7E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olution   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A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A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itri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xid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uori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hosphi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ulfi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lori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r </a:t>
            </a:r>
            <a:r>
              <a:rPr b="1" lang="en-US" sz="24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romi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240-88CF-4DE8-81C8-EB7B1EB42F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480" y="214200"/>
            <a:ext cx="7770960" cy="9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Valence Electrons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0160" y="1428480"/>
            <a:ext cx="8853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s in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highest (outer)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electron leve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Have most contact with other atoms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Known a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lence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electron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Outer shells of noble gases conta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 valence electrons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(except He = 2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: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2,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r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2, 8,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9F6-C226-4B5E-8CEE-0983971D6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8480" y="285480"/>
            <a:ext cx="77709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lectron Dot Structur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562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Symbols of atoms with dots to represent the valence-shell electrons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A      2A     3A        4A       5A        6A     7A          8A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H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Li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e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F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M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l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C5D-D052-40F6-994C-B6CC9BEB0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   X  would be the electron dot formula fo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N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A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    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X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would be the electron dot formul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P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E3A-3848-4E9F-880A-F2058852CC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   X  would be the electron dot formula fo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) N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     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X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would be the electron dot formul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) 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) P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173-05AB-4F88-84F5-A6050BC5C1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898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ctet Ru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880" y="1642680"/>
            <a:ext cx="8709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octet in the outer shell makes atoms sta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st, gained or shared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o form an oct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npaired valence electrons strongly influence bond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1360440" cy="13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78B-4CD9-4D49-B968-490665A32F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Formation of Ions from Metals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onic compound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esult whe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tal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eact wi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metal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etal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os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 to match th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umber of valence electrons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f their nearest noble g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itive ions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orm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whe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he number of electrons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than the number of proton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roup 1A metals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on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1+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roup 2A metals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on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roup 3A metals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on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C58-8231-488C-985F-D0D28B799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Formation of Sodium 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 atom                            Sodium io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a </a:t>
            </a:r>
            <a:r>
              <a:rPr b="1" lang="en-US" sz="34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1" lang="en-US" sz="34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–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333333"/>
                </a:solidFill>
                <a:latin typeface="Symbol"/>
                <a:ea typeface="Symbol"/>
              </a:rPr>
              <a:t>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Na </a:t>
            </a:r>
            <a:r>
              <a:rPr b="1" lang="en-US" sz="34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-8-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2-8  ( = Ne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1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11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Times New Roman"/>
              </a:rPr>
              <a:t>11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                        </a:t>
            </a:r>
            <a:r>
              <a:rPr b="1" lang="en-US" sz="3000" spc="-1" strike="noStrike" u="sng">
                <a:solidFill>
                  <a:srgbClr val="333333"/>
                </a:solidFill>
                <a:uFillTx/>
                <a:latin typeface="Times New Roman"/>
              </a:rPr>
              <a:t>  10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                          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PLUS Timberla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FF4-A11C-4C84-8F6D-7FE6902D9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6T23:55:59Z</dcterms:created>
  <dc:creator>Karen Timberlake</dc:creator>
  <dc:description/>
  <dc:language>en-US</dc:language>
  <cp:lastModifiedBy>Timberlake</cp:lastModifiedBy>
  <cp:lastPrinted>1997-09-24T15:10:04Z</cp:lastPrinted>
  <dcterms:modified xsi:type="dcterms:W3CDTF">2002-10-04T15:32:16Z</dcterms:modified>
  <cp:revision>29</cp:revision>
  <dc:subject/>
  <dc:title>Chemical Bo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4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